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9A4-4287-45F7-9369-49E06874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8B8-B07D-4000-810C-F92D8774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DDC-53AD-4AF9-BEC0-0C5BBD1C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9C3-A4BB-48B3-B9BB-69E671AA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BB5-DB88-449D-9CA0-B20A6247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38E-E6AE-48BC-B306-5D06003C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75A-0E47-41B9-9CF7-8E441084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CDB-F8B9-4B2B-95B4-B8B2A22D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506-0FC9-42C9-8CD3-DB5989B8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444-C70B-4DA6-8B02-AACD0F9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778-692A-4449-8589-1DE401BD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877-7895-480D-BF72-6BDA954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B9A9-E8B4-4A51-B850-29FD96065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4:49:34Z</dcterms:created>
  <dc:creator>Grupo Editorial</dc:creator>
  <dc:description/>
  <dc:language>en-US</dc:language>
  <cp:lastModifiedBy>Grupo Editorial</cp:lastModifiedBy>
  <dcterms:modified xsi:type="dcterms:W3CDTF">2001-09-20T14:52:44Z</dcterms:modified>
  <cp:revision>1</cp:revision>
  <dc:subject/>
  <dc:title>Sin título de diapositiva</dc:title>
</cp:coreProperties>
</file>